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12.jpeg" ContentType="image/jpeg"/>
  <Override PartName="/ppt/media/image88.jpeg" ContentType="image/jpeg"/>
  <Override PartName="/ppt/media/image29.jpeg" ContentType="image/jpeg"/>
  <Override PartName="/ppt/media/image108.jpeg" ContentType="image/jpeg"/>
  <Override PartName="/ppt/media/image1.png" ContentType="image/pn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129.jpeg" ContentType="image/jpeg"/>
  <Override PartName="/ppt/media/image140.jpeg" ContentType="image/jpeg"/>
  <Override PartName="/ppt/media/image45.jpeg" ContentType="image/jpeg"/>
  <Override PartName="/ppt/media/image136.jpeg" ContentType="image/jpeg"/>
  <Override PartName="/ppt/media/image57.jpeg" ContentType="image/jpeg"/>
  <Override PartName="/ppt/media/image141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42.jpeg" ContentType="image/jpeg"/>
  <Override PartName="/ppt/media/image47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143.jpeg" ContentType="image/jpeg"/>
  <Override PartName="/ppt/media/image54.jpeg" ContentType="image/jpeg"/>
  <Override PartName="/ppt/media/image133.jpeg" ContentType="image/jpeg"/>
  <Override PartName="/ppt/media/image145.jpeg" ContentType="image/jpeg"/>
  <Override PartName="/ppt/media/image146.jpeg" ContentType="image/jpeg"/>
  <Override PartName="/ppt/media/image139.jpeg" ContentType="image/jpeg"/>
  <Override PartName="/ppt/media/image50.jpeg" ContentType="image/jpeg"/>
  <Override PartName="/ppt/media/image147.jpeg" ContentType="image/jpeg"/>
  <Override PartName="/ppt/media/image130.jpeg" ContentType="image/jpeg"/>
  <Override PartName="/ppt/media/image51.jpeg" ContentType="image/jpeg"/>
  <Override PartName="/ppt/media/image144.jpeg" ContentType="image/jpeg"/>
  <Override PartName="/ppt/media/image53.jpeg" ContentType="image/jpeg"/>
  <Override PartName="/ppt/media/image132.jpeg" ContentType="image/jpeg"/>
  <Override PartName="/ppt/media/image49.jpeg" ContentType="image/jpeg"/>
  <Override PartName="/ppt/media/image4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89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91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6F4-CF8D-4342-A9DE-CC7396FB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2F2-4820-43EF-8750-E5478703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5AA-4D11-4CEA-B4B4-AE1D1DDE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806-E383-4A67-BE33-7024B248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733-53C8-453F-81CE-3F52A518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482-BAB3-4050-B8F7-C370E3A6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414-3392-4422-99B4-3310AAA6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E1F-844E-4629-976B-86908E4F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260-58A2-47F4-803F-56B68394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F61-272E-4734-81E4-392B9CC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C59-DA60-4CD8-9D75-4F4E295D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C82-F6C1-4392-BB44-8487944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ED75-C074-4605-BD88-827DDD854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0.jpeg"/><Relationship Id="rId3" Type="http://schemas.openxmlformats.org/officeDocument/2006/relationships/image" Target="../media/image11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8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9.jpeg"/><Relationship Id="rId3" Type="http://schemas.openxmlformats.org/officeDocument/2006/relationships/image" Target="../media/image120.jpeg"/><Relationship Id="rId4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5.jpeg"/><Relationship Id="rId3" Type="http://schemas.openxmlformats.org/officeDocument/2006/relationships/image" Target="../media/image13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7.jpeg"/><Relationship Id="rId3" Type="http://schemas.openxmlformats.org/officeDocument/2006/relationships/image" Target="../media/image138.jpeg"/><Relationship Id="rId4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1.jpeg"/><Relationship Id="rId3" Type="http://schemas.openxmlformats.org/officeDocument/2006/relationships/image" Target="../media/image142.jpe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5.jpeg"/><Relationship Id="rId3" Type="http://schemas.openxmlformats.org/officeDocument/2006/relationships/image" Target="../media/image146.jpeg"/><Relationship Id="rId4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4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782040" cy="55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1066680"/>
            <a:ext cx="402408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1066680"/>
            <a:ext cx="338112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8769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manda Br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1143000"/>
            <a:ext cx="5562720" cy="461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1066680"/>
            <a:ext cx="343548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49528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Erin Brosn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990720"/>
            <a:ext cx="4575240" cy="487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066680"/>
            <a:ext cx="3490920" cy="480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4952880"/>
            <a:ext cx="51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Maureen Brosn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19520" y="1295280"/>
            <a:ext cx="3382920" cy="457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51055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mber Bu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295280"/>
            <a:ext cx="5173560" cy="4488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1295280"/>
            <a:ext cx="3214440" cy="44197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7242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Zachary Car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219320"/>
            <a:ext cx="3378240" cy="457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19320"/>
            <a:ext cx="332424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480060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Gregory Cashdol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128600"/>
            <a:ext cx="5790960" cy="4672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1219320"/>
            <a:ext cx="3151080" cy="44956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9528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mber Cioff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066680"/>
            <a:ext cx="5257800" cy="473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1066680"/>
            <a:ext cx="337968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105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6156360"/>
            <a:ext cx="327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495288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licia C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1143000"/>
            <a:ext cx="6553080" cy="465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1219320"/>
            <a:ext cx="332568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7242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manda Country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1219320"/>
            <a:ext cx="2460600" cy="4647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1143000"/>
            <a:ext cx="3241800" cy="472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80060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tacie Corna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143000"/>
            <a:ext cx="3692520" cy="4648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219320"/>
            <a:ext cx="3585960" cy="44956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4800600"/>
            <a:ext cx="342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8769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melia Abdulmag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523880"/>
            <a:ext cx="6781680" cy="4273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1219320"/>
            <a:ext cx="3270240" cy="44956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50292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Molly Cron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143000"/>
            <a:ext cx="3351240" cy="4648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143000"/>
            <a:ext cx="338112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5105520"/>
            <a:ext cx="3505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502920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Bryn Dela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65400" y="1235160"/>
            <a:ext cx="3013200" cy="4389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8120" y="1066680"/>
            <a:ext cx="314964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50292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Justin Dyke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1143000"/>
            <a:ext cx="3310200" cy="472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143000"/>
            <a:ext cx="338004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4876920"/>
            <a:ext cx="403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Thomas Farn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1219320"/>
            <a:ext cx="5029200" cy="4608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295280"/>
            <a:ext cx="3271680" cy="449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9528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Caitlin Fiel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219320"/>
            <a:ext cx="5581800" cy="46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1219320"/>
            <a:ext cx="351324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495288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arah Fi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1066680"/>
            <a:ext cx="339876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066680"/>
            <a:ext cx="343692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48006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Marilou Forg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1295280"/>
            <a:ext cx="6019920" cy="447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371600"/>
            <a:ext cx="3159000" cy="43434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8006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hannon Frederi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990720"/>
            <a:ext cx="3173400" cy="487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1066680"/>
            <a:ext cx="375300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46483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Nicholas Gaiduse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516280" cy="3427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71800" y="1066680"/>
            <a:ext cx="3489480" cy="480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952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hawn Gi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066680"/>
            <a:ext cx="423540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066680"/>
            <a:ext cx="3490920" cy="480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Nicole Arago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914400"/>
            <a:ext cx="3438360" cy="502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990720"/>
            <a:ext cx="3546360" cy="48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495288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Lindsay Good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066680"/>
            <a:ext cx="335736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1066680"/>
            <a:ext cx="343548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1055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Jessica Halboh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3897360" cy="487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990720"/>
            <a:ext cx="3490920" cy="480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8769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Rachel Harring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333760" cy="4803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895480" y="1066680"/>
            <a:ext cx="343404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4876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Matthew Heb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1219320"/>
            <a:ext cx="5181840" cy="4524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1066680"/>
            <a:ext cx="3430440" cy="480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472428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asha Heb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1066680"/>
            <a:ext cx="382572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1143000"/>
            <a:ext cx="422748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49528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Chelsey Hochmu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1143000"/>
            <a:ext cx="3795480" cy="4495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1143000"/>
            <a:ext cx="309888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4876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John Hotaling, J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1066680"/>
            <a:ext cx="4313520" cy="472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066680"/>
            <a:ext cx="3200400" cy="480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48006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John Michael Ise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143000"/>
            <a:ext cx="5105520" cy="474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049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9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1143000"/>
            <a:ext cx="309852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50292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8006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C Saxon Bold"/>
              </a:rPr>
              <a:t>Adam Iwaniu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1066680"/>
            <a:ext cx="4724280" cy="472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143000"/>
            <a:ext cx="3149640" cy="472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8769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Jon Krie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066680"/>
            <a:ext cx="311472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1066680"/>
            <a:ext cx="343548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9528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Joshua Bar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1219320"/>
            <a:ext cx="4076640" cy="457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219320"/>
            <a:ext cx="3098880" cy="464796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480060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Emil Kuhl, 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990720"/>
            <a:ext cx="3676680" cy="487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990720"/>
            <a:ext cx="3200400" cy="480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952880"/>
            <a:ext cx="396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8769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Nathan Kuh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1066680"/>
            <a:ext cx="286560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1143000"/>
            <a:ext cx="309852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49528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Drew Loma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1219320"/>
            <a:ext cx="4533840" cy="457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1219320"/>
            <a:ext cx="2997360" cy="44956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46483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Noel Loma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1143000"/>
            <a:ext cx="3554640" cy="472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1143000"/>
            <a:ext cx="309888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9528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Brittany L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1143000"/>
            <a:ext cx="3992400" cy="472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066680"/>
            <a:ext cx="301932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7692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Christopher Ma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1143000"/>
            <a:ext cx="3508200" cy="472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1066680"/>
            <a:ext cx="314964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487692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Jessica Maho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066680"/>
            <a:ext cx="2401920" cy="472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1143000"/>
            <a:ext cx="394308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5029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Lindsay Mart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1066680"/>
            <a:ext cx="350532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1066680"/>
            <a:ext cx="319248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50292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87692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arah Mart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1143000"/>
            <a:ext cx="5778360" cy="465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1219320"/>
            <a:ext cx="2997360" cy="44956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495288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shley Mill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219320"/>
            <a:ext cx="4907160" cy="456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1219320"/>
            <a:ext cx="332280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0292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hane Bee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1143000"/>
            <a:ext cx="3498840" cy="4648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1219320"/>
            <a:ext cx="304812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480060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arah Mun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0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1219320"/>
            <a:ext cx="5027400" cy="461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1295280"/>
            <a:ext cx="2997360" cy="449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95288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Catherine Mur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90920" y="1143000"/>
            <a:ext cx="4144680" cy="472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295280"/>
            <a:ext cx="304812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7242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Nicholas Mu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000"/>
                            </p:stCondLst>
                            <p:childTnLst>
                              <p:par>
                                <p:cTn id="96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1219320"/>
            <a:ext cx="3106440" cy="457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1295280"/>
            <a:ext cx="2997360" cy="449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495288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Benjamin Nasseb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2000"/>
                            </p:stCondLst>
                            <p:childTnLst>
                              <p:par>
                                <p:cTn id="98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1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1295280"/>
            <a:ext cx="5638680" cy="4496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1371600"/>
            <a:ext cx="2895840" cy="43434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502920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shley Onora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990720"/>
            <a:ext cx="5333760" cy="4797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066680"/>
            <a:ext cx="314964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4952880"/>
            <a:ext cx="49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487692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manda Orl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143000"/>
            <a:ext cx="2395440" cy="4648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1066680"/>
            <a:ext cx="314964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02920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Jessica Peller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8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4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1066680"/>
            <a:ext cx="2765520" cy="472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666880" y="1371600"/>
            <a:ext cx="3821400" cy="4267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2819520" y="487692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Benjamin Phe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3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1143000"/>
            <a:ext cx="3942000" cy="4648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1143000"/>
            <a:ext cx="309888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50292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Nicholas Pl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28800" y="1295280"/>
            <a:ext cx="5562720" cy="448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98880" y="1143000"/>
            <a:ext cx="304776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49528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Bryan Pres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990720"/>
            <a:ext cx="4862520" cy="4776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066680"/>
            <a:ext cx="343692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0292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Kacy Bertr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819520" y="1066680"/>
            <a:ext cx="342900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9528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shley R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r"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3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7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1066680"/>
            <a:ext cx="3738600" cy="472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1066680"/>
            <a:ext cx="381456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5029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Ivan Ric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7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3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1143000"/>
            <a:ext cx="4518000" cy="4648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1066680"/>
            <a:ext cx="314964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8120" y="48006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Brook Rowl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6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1066680"/>
            <a:ext cx="4532040" cy="472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1143000"/>
            <a:ext cx="304776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49528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Corey Rybic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1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62320" y="1219320"/>
            <a:ext cx="4647960" cy="4620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1295280"/>
            <a:ext cx="2997360" cy="449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502920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Rebecca San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4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1219320"/>
            <a:ext cx="5562360" cy="451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143000"/>
            <a:ext cx="309852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487692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Amanda Schai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9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1143000"/>
            <a:ext cx="3431880" cy="4648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1143000"/>
            <a:ext cx="309888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5105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Catherine Sell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8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1219320"/>
            <a:ext cx="3102120" cy="457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1295280"/>
            <a:ext cx="3117960" cy="449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48769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Brian Simp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819520" y="1066680"/>
            <a:ext cx="3520800" cy="4724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895480" y="990720"/>
            <a:ext cx="3098880" cy="464796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87692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Nicholas Solom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0400" y="1066680"/>
            <a:ext cx="254808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1143000"/>
            <a:ext cx="309888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50292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amantha Tra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9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5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066680"/>
            <a:ext cx="310968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143000"/>
            <a:ext cx="338004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4952880"/>
            <a:ext cx="403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48006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Eva Bod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1143000"/>
            <a:ext cx="2884680" cy="472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1066680"/>
            <a:ext cx="314964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4724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Jacob Vallet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8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1066680"/>
            <a:ext cx="350532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1066680"/>
            <a:ext cx="314964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502920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43400" y="51055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Kirstin Vroo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82760" y="1066680"/>
            <a:ext cx="267984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1143000"/>
            <a:ext cx="3047760" cy="457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47242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Shane Wald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3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3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3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066680"/>
            <a:ext cx="3765600" cy="472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1066680"/>
            <a:ext cx="3200400" cy="480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0292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Kevin Wh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0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5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1143000"/>
            <a:ext cx="4606920" cy="472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990720"/>
            <a:ext cx="3200400" cy="480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00600" y="49528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Nha Wr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0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4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0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219320" y="585720"/>
            <a:ext cx="6781680" cy="5607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1066680"/>
            <a:ext cx="360360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1066680"/>
            <a:ext cx="3436920" cy="47246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495288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Madison Bohunic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143000"/>
            <a:ext cx="3573360" cy="472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143000"/>
            <a:ext cx="3340080" cy="46483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952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0000"/>
                </a:solidFill>
                <a:latin typeface="CAC Saxon Bold"/>
              </a:rPr>
              <a:t>Kyle Bow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9:17:09Z</dcterms:created>
  <dc:creator>Administrator</dc:creator>
  <dc:description/>
  <dc:language>en-US</dc:language>
  <cp:lastModifiedBy>Joe</cp:lastModifiedBy>
  <dcterms:modified xsi:type="dcterms:W3CDTF">2007-07-09T18:44:20Z</dcterms:modified>
  <cp:revision>61</cp:revision>
  <dc:subject/>
  <dc:title>Photo Album</dc:title>
</cp:coreProperties>
</file>